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2B0-BEE9-469A-8BFB-74292BBE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B20-B641-42AF-8B61-5CF6C8C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833-1F06-40EE-AC52-918858C2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536-41F5-4666-BEA9-A5034DF1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0DA3-3579-495B-98CD-9006C557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90BA-C2CD-4389-839D-A6EEB010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E0B7-9928-417A-B667-567FE6D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A8CC-4F2D-4F05-A5BA-BD397F0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9D9-BB98-4DAD-B0FE-ED299B36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7D45-F2D3-4332-8FCA-825E9FB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49E-EDD6-42C7-B207-21366F6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4B0-9681-46CD-AA9B-A35CE90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B0D1-C3E2-4E79-B14E-DA47869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1B9-0764-44A0-956C-EEC5C85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50E3-CE6B-43F7-B943-3E5D2DE3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B2B9-2029-4390-9809-E1BB6EC7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975C-79B7-48BE-BCFA-D0211221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EB6-3E9D-450D-AD2B-CE65E1D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F42-2817-4DC9-AA8F-893A403E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3D7-E14C-420A-A9BD-03C8F69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C5E-714C-4AA5-8B0C-304E2097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AF3-3019-4D9A-90BA-875BDD6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E72-FE08-4536-93EA-65AD9EAE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E51-865E-4C66-A1DD-3B5D72F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CCB-E29D-49C2-8380-319310D939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618B-1232-425F-B049-D6E6E100D4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ve You Reta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609480"/>
            <a:ext cx="466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rter 3, Lesson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e Days of the Judg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lag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Stubborn Will of Phar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gue: Death of First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Angel Passes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over Feast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Egypt To Sina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Deliverance At Re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zed Unto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Victory And Glory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ter Waters Made Sw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al At The Mount of God: Horeb /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ESOME GOD COMES DOWN UPON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d Makes A Coven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grees To Do All God 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bernacle: God Dwelling Among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aronic Priesthood: Lev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of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For Cleanliness &amp; Ho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Sinai To Kade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Food &amp;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Aaronic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Inability To Take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dience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gnment To 40 Year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nd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dged In By Fear of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Years To Go Nowhere Desi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eration Hands Down Poor Examples In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 The Plains of Mo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k, King of Moab Wants Balaam To Curse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Enticed To Sin At Baal-Pe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nication and 24,000 F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ating The Midia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ing Moses’ Successor: Josh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&amp; Gad Get Their Inheritance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ities of Ref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eronomy: Moses’ Spee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ings and Curses: Obedience /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g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urney’s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ing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ies In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To Take The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Years of Wandering Now Cl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Now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d Land Is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 Is Assured That God Will Be With Him In His Leadership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The Soldier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Win Great Battles With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Lose Witho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 &amp; 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ns, Hardship,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n &amp; 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/ Mu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lo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ly Sinfu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Find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ed To Build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 Destroys All Land-Dwelling Air Br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nimals In Ark Would Repop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Saved Throug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att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: Shem, Ham, Japh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scendants Trying To Keep Population In On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ower of Babel For Corrupt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nfounds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Divide According To Language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of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By God Out of Ur of Chal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A Land God Would Sh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ather A “Great N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ring The Whole World A “Blessing” (Jes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To Typify The Sacrificial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ing To Come Through Son, 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of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nue of the Promises to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anter of Es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fied Church Supplanting National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l – House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nue of th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Is Named “Isra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 of Isra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, Simeon, Levi, Judah, Gad, Da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achar, Zebulun, Naphtali, Asher, Joseph, Benja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Carries Messianic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Saves Family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ll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enerations /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aby Moses Was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Prestige I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Flees To Midian For 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From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: Delivering Israel From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3:48:05Z</dcterms:created>
  <dc:creator>Terry W. Benton</dc:creator>
  <dc:description/>
  <dc:language>en-US</dc:language>
  <cp:lastModifiedBy>Frank D Vines</cp:lastModifiedBy>
  <dcterms:modified xsi:type="dcterms:W3CDTF">2005-01-02T14:01:40Z</dcterms:modified>
  <cp:revision>6</cp:revision>
  <dc:subject/>
  <dc:title>Summary</dc:title>
</cp:coreProperties>
</file>